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1D0-3BAA-4156-BCB3-0820F57C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004-8671-4944-B64C-8811B31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805-F29A-4888-B32F-73C57937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520-940E-4721-B026-EEA088EA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999-07F1-461A-A6FA-EEF49B61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4E3-604B-41D6-9935-0BA885B5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D46-06C7-44C5-BDCD-E99EEE5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FD5-EBBE-4B3F-8103-A7B08EA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91A-A1ED-4BAE-A2F5-834B9D4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43A-D352-4985-A953-87E53F9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7D2-4B9E-44C5-B6CB-B6D4F6CB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3AA-EEE3-420C-ADDA-83E1C4E5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CA5-706B-4A01-93C2-06F569B0F9DF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Δημιουργία δυναμικού κειμέν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Η μεταβλητή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iesEaten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μετράει τις μύγες που τρώει ο βάτραχος (Σκο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α την αντικαταστήσουμε με ένα νέο αντικείμενο κειμένου που θα τοποθετήσουμε στον κόσμο και θα αλλάζει κάθε φορά που ο βάτραχος τρώει μια μύγα (δυναμικό κείμενο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ημιουργούμε μια υποκλάση τη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με όνομα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e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και χωρίς να της δώσουμε εικόν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Κλάση GreenfootI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H βιβλιοθήκη του greenfoot περιέχει μια κλάση που ονομάζεται GreenfootImage, η οποία παρέχει μεθόδους για το χειρισμό των εικόνω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Για να τις χρησιμοποιήσουμε πρέπει να δημιουργήσουμε πρώτα ένα αντικείμενο τύπου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GreenfootImage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χρησιμοποιώντας τη λέξη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Υπερφόρτ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15717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Η κλάση GreenfootImage διαθέτει 5 διαφορετικούς κατασκευαστές(διαφορετικές μεθόδους με το ίδιο όνομα για να δημιουργούμε αντικείμενα αυτής της κλάσης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Οι διαφορετικοί κατασκευαστές διαφοροποιούνται μεταξύ τους ως προς τις παραμέτρους που δέχονται (πλήθος ή/και τύπο). Αυτή είναι μια δυνατότητα που μας δίνει η Java και ονομάζεται </a:t>
            </a:r>
            <a:r>
              <a:rPr b="1" lang="el-GR" sz="3200" spc="-1" strike="noStrike">
                <a:solidFill>
                  <a:srgbClr val="000000"/>
                </a:solidFill>
                <a:latin typeface="Calibri"/>
              </a:rPr>
              <a:t>υπερφόρτωση (overloadin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Δημιουργία εικόνα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α χρησιμοποιήσουμε τον εξής κατασκευαστή της κλάσης GreenfootImag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GreenfootImag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width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nt heig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για να δημιουργηθεί μια διαφανή εικόνα, με συγκεκριμένο πλάτος και συγκεκριμένο ύψος και την αποθηκεύουμε σε μια μεταβλητή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Μέθοδο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ναθέτουμε στον μετρητή (Counter) μια εικόνα με την κλήση της μεθόδου setI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ντίστροφα για να πάρουμε την εικόνα ενός αντικειμένου τύπου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GreenfootImage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χρησιμοποιούμε την μέθοδο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etI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Άλλες χρήσιμοι μέθοδο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clear() για να καθαρίζει την εικόνα του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setColor(color) για να ορίζει το χρώμα του κειμένου του μετρητή (Counter) του πακέτου java.awt.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String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) για να ορίζει το κείμενο που θα γραφτε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Άνοιγμα Επεξεργαστ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class Counter extends Acto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{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vate int p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ο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Counter(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{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eenfootImage   eikona = new GreenfootImage(200,30)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tImage(eikona)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ints = 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pdate()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Μέθοδο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(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void update(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{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footImage img = getImage(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g.clear(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g.setColor(Color.BLACK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g.drawString(“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Σκορ: ”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s, 4,20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2T15:15:38Z</dcterms:created>
  <dc:creator>tak kaz</dc:creator>
  <dc:description/>
  <dc:language>en-US</dc:language>
  <cp:lastModifiedBy>tak kaz</cp:lastModifiedBy>
  <dcterms:modified xsi:type="dcterms:W3CDTF">2016-01-12T16:29:13Z</dcterms:modified>
  <cp:revision>8</cp:revision>
  <dc:subject/>
  <dc:title>Δημιουργία δυναμικού κειμένου</dc:title>
</cp:coreProperties>
</file>